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E444-6833-4537-88ED-2984F759C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EBFA-5F71-410B-9C4A-12337780E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4759-B3C8-4FF5-9D84-4036CF57C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8D2C-AD9E-4C00-925E-53479F1A7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491C-3D6E-4DCD-B491-97C86DE2E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D40C-518C-4FA9-A4D5-23B5DF260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4D3F-6604-4F96-8E48-B82E7CF62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E494-5D20-48A4-92D8-697EE358E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534B-AEBE-4595-93E8-36DE2D16A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B2BD-48D2-4B69-BFD7-BA7A198D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70D9-EEA4-43E2-92EE-8DFEDEE7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9C3E-90B9-4B14-8E55-33D0440D3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20343-232C-48B0-A74D-DDF578506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0T18:28:38Z</dcterms:created>
  <dc:creator>abeason</dc:creator>
  <dc:description/>
  <dc:language>en-US</dc:language>
  <cp:lastModifiedBy>abeason</cp:lastModifiedBy>
  <dcterms:modified xsi:type="dcterms:W3CDTF">2008-12-10T18:29:12Z</dcterms:modified>
  <cp:revision>2</cp:revision>
  <dc:subject/>
  <dc:title>Slide 1</dc:title>
</cp:coreProperties>
</file>